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C51-0565-47B6-B2F5-DAE7537A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3FA-E076-4A4F-BC4C-9633A3F0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132-F0E2-46B1-95E6-0B23C9BF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338-1462-4238-9DB4-D3B35C57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991-0D6A-442C-A376-6885ED46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5CB-2D87-41A8-B204-37EF1095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82E-A7CE-4937-9632-6C88AE17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4F7-8C65-4ECA-98DB-FBE1B271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FB0-7A68-4D63-9BCB-95DFC7BE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48E-9683-4F84-A24B-79D92BF5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147-C42D-4C26-A443-08596EE3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BE6-0CF6-42D6-BB8D-11E176D0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C362-1D29-40E2-8D7A-10EEAB327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GEL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568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كلمة نع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قدّام الله مزيّنة كلمة نعم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بخاتم ذهب وزهور ورفوف اليمام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  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نقولا سوا ونحب  (نعم)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تملا الدني ونحب  (نعم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نحنا ربيع العمر (نحنا) 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وحكاية غرا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5:40:18Z</dcterms:created>
  <dc:creator>USER</dc:creator>
  <dc:description/>
  <dc:language>en-US</dc:language>
  <cp:lastModifiedBy>USER</cp:lastModifiedBy>
  <dcterms:modified xsi:type="dcterms:W3CDTF">2003-02-13T15:40:43Z</dcterms:modified>
  <cp:revision>1</cp:revision>
  <dc:subject/>
  <dc:title>PowerPoint Presentation</dc:title>
</cp:coreProperties>
</file>